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AB9B-4FBB-48FA-A02F-C386971518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E28B-0F06-4735-B27F-281D6A3891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6C08E-A448-4AE6-8321-0936CAAC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1CE01-68A9-4102-AF7C-C766AB6E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54527-0AF3-4455-A65F-F28C6696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E0A70-BCC6-4CD4-ADF1-FC6280EC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8B1ED-E648-4C73-92D4-EA990EC3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C866E-A259-4CC9-A890-20E7C1DB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C9566-6773-41D4-BF4A-272BC2A1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0A354-E5A6-4329-9F44-D0A0E338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63ED0-85FD-4086-8845-C1B8003F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ADD2B-E3D1-4E66-8440-E27E0DA6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566FE-5AE9-4764-B4DB-E003F163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7A7E9-8BB8-4D5B-9FA4-C58B5224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E3552-F5BE-4148-85E8-DFB202C5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642C0-B3AA-43E0-BF10-FA80AD3A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7A43C-BF51-4DDD-B318-178C2991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DFFE4-F48D-4497-A1D5-2A1EEB8C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94E3D-51B7-4452-9DF6-03C0A495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32280-7B6D-458F-8010-26143F51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5C999-A7B9-442B-B67D-FCC81809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74DEA-9645-48AF-AA59-B996333B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98616-4374-4082-8F37-071C17C3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B4576-27D1-4EBB-9F8D-8B67ED1C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F9E1D-7218-4FFF-97B1-9AD8E1EC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C47C4-6503-4134-8731-287CB238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5E3DF-89ED-44D4-B9B9-CBF34E05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C0FA3-5AE3-4C44-95CA-4D5ED741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E2AA5-0BD5-4B3D-AC5B-B11BEB5A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FFF34-D1A8-4D6A-99EE-EC2F2463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985B4-72D1-4FB8-AFFA-CC1607F3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A9F5D-FAF2-4193-91CD-E4587EE3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705-6943-4026-A976-71666FB1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E64DE-836A-48EA-8CF9-5FC45817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34EBB-352E-4352-BEA9-D79C3FF1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09BA2-40BF-441D-AC4E-886576DD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9F352-CB31-4BFA-B67E-3D24C625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84A87-34A0-4DA9-898B-64D597A4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0D37B-F514-43E1-8995-70DF68DD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B7834-FD2F-4733-B09B-8CD2B603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01D2D-25AD-4889-98AC-F17E04E5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E33C7-8C6F-4DEF-A930-86E0C4B3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83CBA-894D-4FD3-BB5A-2D1BE6C5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5C8C-8330-4A13-B9AE-654D605F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10226-D363-46A1-9687-EE28545C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0A4BC-DB87-4FA2-9654-08220FA2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41FEC-2243-46F9-BCD0-9CF49AF9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F7DCD-2ADE-465B-A024-15C6FD3A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2B71E-B1C7-4943-955B-643B2E5E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9426-2AB0-4EC6-8041-690DEF4D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2F83-D006-41D8-8AB5-45A22E23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3120-2835-48EF-BDC3-8F127716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5C4C-865E-4881-9B1D-0FEF8486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7E70-F3CB-4E15-972B-9F7E607D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A6C-DBD2-43D9-AE87-1E94A0A4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79FB-48F2-454C-A3AF-D733C37F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8AB-0FA5-4C29-A6ED-09C8A005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E24-D273-461F-AE89-E3FE6CA8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1FD-4BC8-4F95-978A-6DDDBE5B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EF18-FA26-4D4D-81FC-CFC2005C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75BD-079F-4C50-A66B-F1D5965F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3A0C-4345-45EB-869A-EBA8617F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AE56-9E41-49A3-8EE5-2C45800F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5FCE-BDF4-428A-B7BA-5680D1CC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0214-2D4C-4D56-9F34-F498CF68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887C-B408-4764-9B77-1CFAB313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8EB6-86A6-49D8-8E29-10F79EA7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229E-99A2-478B-B9F5-CBD07EA6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BDD3-532E-4ADE-99D3-C4DF1DC0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4332-6807-4408-A43A-BC5B3A76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5783-30B8-4365-A6A3-21E81438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645EF-125A-4931-B3CF-373ECEBB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EC571-AE24-45BD-ABF1-7954E633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1BEFC-E228-457B-99DD-97DA4864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95222-EACC-4336-AE62-2541B97D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0AABB-E00B-485F-948A-968FE08F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2B0CA-45AE-41A3-8648-348C0EA8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3BC08-72DA-4224-8CF6-F2F76DB5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8274A-EA32-4431-8D67-F46B820D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D624B-0269-441A-A9AB-F34A1B75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DD8D0-CCE0-41CE-85DC-0883248A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229D5-4C01-4AB5-A41A-DF78CCDB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6AE27-7222-45A6-A7F5-637E6FCB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CB5C1-D1C9-4652-9333-2690EBC5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CA5CA-F8B5-44D1-BCF2-5F54212D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B4025-C253-45A1-B703-B841BE11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ABB80-A971-4F24-970B-BBFEFE01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88801-A18D-4953-AEF6-54C61C93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CB540-2E96-4DB0-AAF1-539F27FD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AEDA7-3657-445E-8FEF-7FD54F82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D838E-DDFA-4215-A62F-778CDE45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52BE5-8425-4F1A-8CC1-383578BE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365D8-33B2-4B28-94AF-2B6C257E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67946-751E-470D-8A35-476EC683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2F002-4245-4213-BDED-893A4564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08A32-3EFB-45EA-8BAF-E7459124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B7D07-82AB-4839-A726-B388E1D2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A6364-076E-470F-8B4D-6B46B449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D7F7B-FF05-487D-87A0-3EAC6A9E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85001-7A48-445B-AF5F-C852EC05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19A8B-079F-4644-9CC9-F026E4BB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7EDE5-29C1-4D95-98F2-A7C5D05E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A8BE2-6675-41D9-8F09-27184A39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C7A53-27D9-4234-8D0A-3E7BB522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6BB57-6A93-4DF5-A06E-A4FE2B2B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D57CE-1F09-429E-9AF8-AB1C83DD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09C77-A940-4A7B-821A-A0C915BD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317A4-EA23-4ABC-BEC6-9B15E5B9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408E2-1FA9-46B3-A48C-38A996E9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21F13-3A2D-4449-8D33-9D3CE4C6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8FAAD-FD38-4C66-8494-0E33B852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B20DA-39F1-427C-88C4-7D4A346E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9FC0E-CBDD-4B0F-B1C6-C04C522F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E138B-A1B1-4A4B-AE45-E8F0F8C9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83DFA-A203-4FFD-83E0-E0859298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555F4-409A-4D83-985E-90048FAF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F9D6F-39D8-43AE-93AC-9B75B22D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CFB18-7FC3-450F-AEE1-02904923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1135D-A59C-443A-BF3D-CACEFA7A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BB793-27D1-4B23-A4E9-691DF523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AD084-FD67-436A-9DBB-1D175BA6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F82AF-9E72-44FC-A981-B5FA972F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FFDD0-F365-426F-A08E-E259C2FE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596FB-43D4-45E1-89ED-A7D5E6F0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C81F3-E802-4222-9440-592BD1C5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0FB41-60D9-4A7B-BED6-48573678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A920C-4011-4B12-AE4E-99FB0DD0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A8D23-7D07-49DC-9E3E-2C83129D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3B3DB-5083-4F88-ADE9-45FBA26A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9B73C-7C9F-46CA-AC3D-2103C1C1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48434-3468-44AC-9B62-4EE1E86D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4D674-44BF-4E37-83C1-E7574F68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4131D-913A-4974-A687-F9397B2D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0EDD2-6196-4C0E-9A85-9338800C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5951-E753-47C4-8EE1-75BF2B149333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35D6-29CF-4131-B8A8-6F9AFC3F45B0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65C8-7C8B-4114-8BC2-DC88EDA3A8EF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2596-49CD-4B6A-BF4A-2207F3A63745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EDBD-4208-4C06-A272-CCE82BD77A1A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B5D2-F622-4DC2-8CBF-B4C73DEECA47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F25B-A1D2-4B13-8547-B322D5DBE6E1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723D-ABBB-457E-9499-5F9221AA03F1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45BF-40C3-4D3E-9BBF-01A63BFE2062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CAF2-A03D-4F7A-BBF7-A6BDAB747128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730A-5830-4939-A2F4-044385606A96}" type="slidenum"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bp.mpg" descr=""/>
          <p:cNvPicPr/>
          <p:nvPr/>
        </p:nvPicPr>
        <p:blipFill>
          <a:blip r:embed="rId1"/>
          <a:stretch/>
        </p:blipFill>
        <p:spPr>
          <a:xfrm>
            <a:off x="663480" y="496800"/>
            <a:ext cx="78170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640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51:50Z</dcterms:created>
  <dc:creator>Rob</dc:creator>
  <dc:description/>
  <dc:language>en-US</dc:language>
  <cp:lastModifiedBy>Rob</cp:lastModifiedBy>
  <dcterms:modified xsi:type="dcterms:W3CDTF">2009-12-11T13:54:07Z</dcterms:modified>
  <cp:revision>2</cp:revision>
  <dc:subject/>
  <dc:title>Slide 1</dc:title>
</cp:coreProperties>
</file>