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8B68-7CA9-448D-B391-B1AD1CF45A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A1EB-C176-4288-90DA-5205D2F5BB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F1FA-87F2-4ADE-9EB3-03F1F8EB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6670-BCA7-4957-9D79-BBC0CB13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049DF-2A08-4B3B-9A92-8FAFCC0C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AAFCE-46F5-47D0-8350-29DD77FB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E931F-BA3D-457A-8947-F97B206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724B1-E7B2-48C6-8C06-B08ED39D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5E552-853D-4E64-9FBA-941533E2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10042-9D70-46EA-93CF-8123D13C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06F7-674A-41DD-AD7D-BFAA1FCC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2291D-2560-4A87-A214-DCA6895B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A6B64-3A69-4C55-A0CB-348C716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EF3B9-0785-4EC1-86B9-6B5DFD5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7FCC4-ABD2-4538-9FF2-7DAFB48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1BBA7-5906-4CA8-9582-305312F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6ADD7-7D62-429D-955E-FA129F6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1F280-170D-4905-A453-CF25F76D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F9875-AB0B-4297-A557-9FFCAD4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C148D-E0B9-4E57-88E8-1D2D6DD2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AE47F-33B1-4230-95C2-7B02A72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73893-8121-4269-8AF0-759B55EE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0CBC2-856D-47E0-807A-90A3674B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47169-58F0-4825-9A63-1F1E8345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3EAD1-528B-44D4-BB67-A54992E5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2D846-973D-4E51-9CFF-E01D79E8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4A3ED-5684-4C46-9BF3-8E35D109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2E7AC-8A7B-4A37-BE69-C18B04BD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124DC-1417-4A06-8084-90DEAFFF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D20E1-CFED-4C86-A83D-B7EBCB1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D4AB2-94EC-4778-8049-F029D30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B0DBD-30E6-4B94-9439-C244A20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A8D-EC25-40A9-B83C-10C225EB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3E0D2-B95B-4FA1-986B-4678CAC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ED1D6-1B1C-4A36-99C7-27CF6ADC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B6B06-173B-4FEF-9D20-1D935CED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B7C88-3FF9-4B63-8002-3AC9E4AA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CADCC-BF38-4616-8E9F-B42DBBD4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2C829-B541-4E63-B6A3-C03269D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47B79-C1A3-4E68-9CDE-DB605D2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B68D0-F4B6-4912-984D-764291AE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37FC6-2973-418F-AD86-A402E342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ABCA-F39F-4E79-9AB8-A416ABE1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4F7-9BF4-439D-A264-082D6A2B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DCDF7-8154-4FC1-96F3-5BA3A23A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94920-82B6-46CA-A15C-6EF52A18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0DFB9-1FA3-4F77-8DD0-1B550685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97332-84FE-4E36-BFD4-451B5680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1BBB6-B807-4597-8377-609BEFD8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ACA-96DC-4A87-AC60-161FC295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3D1-050A-4C70-B167-B7927A18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A1E-37E6-464B-AE42-ABD4FF50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523-CC29-4BD1-BB6E-262E89F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0C3-98A3-41BE-B741-03006CB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A2F-9A7F-41A5-BE62-5B95B25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F39-28FC-497F-A2CF-9F0BB1C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265-FE56-4723-B3B0-A959B26F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E7F-C349-4131-8CD0-09397BC1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FB9-698B-43E4-BB71-97E21FD2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BD86-0BA0-46CF-AB12-3B087F1B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E581-05D1-4D3E-9984-11C44918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6209-3E89-4E5E-BEF7-30696532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851E-7277-4AAF-9708-26C92D76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93D-482C-46D2-A5EB-697DD78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B75-0FF3-4CC7-BF26-6B551F10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0728-DD8E-4B06-902A-320B19E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2383-B875-48E9-816E-D97991B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A7C4-CF39-416F-990B-8C5A555C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22F0-09A0-4BB1-AF51-6576F625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3A7B-B937-44E5-BBF9-392965AA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5E77-D308-4503-A4E9-5C9AF1B9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F078-2F0F-48B0-8802-7595B348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F5E4-4024-4549-A9C9-2A43383D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B254-B19A-4494-BB0D-24975ADE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D101-C3EC-4E95-83DF-A11FB37D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5063-E34A-4466-A17B-78792254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8DAE-C29A-4271-BD71-9E630571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4EE6-8C87-4D9B-AE4B-2668162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3753-98FC-4B8D-850E-5794023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FFBB-F9FA-46BC-A0E1-8AC0A09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B823-0A26-444F-9E46-E2B361C7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4D24-2E00-403C-B5FF-48C36B12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C88F-EA7D-4335-A9E9-6F989614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FFCF-6046-4C00-9C2E-36613602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762A-9265-431A-B53F-239C82A3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DEADD-C690-44A5-825B-6CEB4DB1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9997-6814-4F79-A83D-6796B1FC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8780-CDDD-4769-ADCD-C106D3C2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8EE4-4CF2-4198-83D5-58AA4D2E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D18E-16D9-46B5-9BD7-E123D391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0CDD-2419-497D-BA93-4D0801A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93F9-B97B-4FD0-AA85-B864028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A47A-D595-4744-8C6C-C4B6C6A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4E5A-48E3-41E7-983E-5EE72887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FD4E-24A9-43B4-9F6C-05F5B6B0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D6CD0-60EC-4C9C-8EB9-1CAD2048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6AA8-2411-4150-9941-9584255A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9737-FB64-4363-B415-A3D120F4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0921A-2B4A-43D2-BC80-6B20257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D5C49-2F68-4465-90C5-F35E9F4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00A6-A6C3-4E32-9AE5-F3012666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D47F-6132-4E8F-9903-8A3F632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0381-A3CB-4F4D-9D54-7F3EBDD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E201-4597-4A5E-AC4B-84BD613E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C2DD-7444-4E64-8A14-6C053DA8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AF6E8-48A1-480D-9111-111C8D99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3962-CAB9-4D94-8D76-756ACB26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CC24-E64B-4BAC-9098-C1AC6D57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67B6-BAFE-401F-853A-71F38C13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04669-D768-49A0-8FE4-9A895C63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8C62-5B8B-42E3-B775-7D526469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0D884-D828-45E0-A3E7-2960976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D0175-D2F4-46AC-B6D7-C77D668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2BAD5-2122-479E-949B-EAEE591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D785-8665-4BE4-9874-2FB577C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E6A6-4184-460B-B959-7BC0A0A5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97B0-C4E4-4C17-9667-24F0188A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19CC-CA1A-484E-B687-3AC94EF6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9D25-444D-4FA0-AD94-D4D34ECA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53B8B-D11A-4AE4-BFB0-027A040F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35885-AA43-4F49-97FB-32788D2B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C18C1-9D62-41BA-9EF2-64857EA3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E5C79-1DA9-49F4-94F4-1405FCE0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750F-730D-49E8-9ABC-CA9D1164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DEB0-53AE-4B12-857F-53DD578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86C71-2694-44D1-9278-A476657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AE05-8EFA-4BE0-8337-51F46F3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DCA21-522E-4F77-9965-F3995A7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F9F1E-4B7F-44C9-B1B6-4FC47260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9BFE-1919-4698-9256-934C91DB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4C4DC-9E25-407D-8963-D8513D97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AFF97-24DC-4B32-9BE7-A6319636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4CDB8-2758-4518-934C-4A9873FC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5CD56-7631-4348-A50A-A382E76E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3F73-2FAC-4A83-957C-418EE100E4E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15AF-3F88-4F72-A24D-8E62B2DB75A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CBB1-9677-4089-BADE-98980108C36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D3EB-2019-4C27-ADEA-27F7A2943C8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504-8DC1-4981-B95B-99592DFB2CA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D32F-C169-4E88-AA4F-0C288B6D81E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C43-6627-4AED-85BA-74D54AEACD2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A01-06B8-4CA3-B11B-7B5FCF165B6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60A1-2C9C-4650-B536-C887DAB7A5E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6328-5313-4A57-8A02-0474F5BCC43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5A44-56AF-4AAA-B7A1-532C1B08B55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f3.mpg" descr=""/>
          <p:cNvPicPr/>
          <p:nvPr/>
        </p:nvPicPr>
        <p:blipFill>
          <a:blip r:embed="rId1"/>
          <a:stretch/>
        </p:blipFill>
        <p:spPr>
          <a:xfrm>
            <a:off x="663480" y="496800"/>
            <a:ext cx="78184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40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51:50Z</dcterms:created>
  <dc:creator>Rob</dc:creator>
  <dc:description/>
  <dc:language>en-US</dc:language>
  <cp:lastModifiedBy>Rob</cp:lastModifiedBy>
  <dcterms:modified xsi:type="dcterms:W3CDTF">2009-12-14T10:17:20Z</dcterms:modified>
  <cp:revision>3</cp:revision>
  <dc:subject/>
  <dc:title>Slide 1</dc:title>
</cp:coreProperties>
</file>