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8508-92D7-4243-91BF-7AB0F6C539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E910-488A-4581-B6FE-49EDEE454F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0EAD6-3BFB-4AAA-819C-76801661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72A9E-5FC0-41EF-B5E1-3DF0075A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B0091-8E3B-4742-BC1C-B0B0D4B3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5B0BC-0073-4A18-93A9-662C77E1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03A2C-A600-4B51-97A3-530046FB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27203-C08A-40E7-8747-AC3D8802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CFC6C-FEB9-4E85-AEF1-467199CF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4C938-AE04-4807-ACA2-2C5EC11E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BC94B-558D-4BC8-87FD-91F9A98C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70E20-7AAB-4A68-B465-943A1586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49AED-863D-427D-A32F-2C941DE7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AD7DE-AC01-4B3D-B32A-63ACDA48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7432F-2E14-4000-BEC1-BB166A61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920FC-3667-407F-A98D-0660CDB3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B491F-3D38-44ED-A16C-4D8B65EA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8D278-1416-432E-B0CC-2341DA27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88FC5-8B97-4B3F-A072-633CEA33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EB826-B21F-4CE8-93BD-CDB26D97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F5C57-DB30-4330-AA9F-7CE253D8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2EAAF-3B5A-4736-BA46-A6E74B2E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3A47A-D0E6-4A27-85E7-6A715733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B2060-3A5F-49D6-850B-5F1276AC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CB5CC-9655-4C34-A514-1A61B09A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07E23-8CCF-4019-9F5D-99E39E10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F1C04-614A-4F8F-A581-25B0A4D8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27E8A-C5C7-47B7-8E48-877B7F07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9D625-374F-4E20-9E30-98FAC64B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2656E-CBE5-476F-90C3-3BED6958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007D5-C5C4-491E-8359-D18AA632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9CBA0-1754-4F46-8C98-8F1DFBD5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D1C-E4F5-42D9-9517-C8CDC98D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BA6BB-1B8F-4152-8571-EF84DFE3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11EAA-3C25-4F07-9B27-D314BBBA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25ECE-AD6C-4532-B59B-63E5A2B9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0FE5C-F812-457C-9CB8-E4E0C754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51D72-472A-4CBF-A2F3-F9E8A4F7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B65AC-8B9D-4385-9676-4F74E3C2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2F2C8-C15E-4067-A479-23DBFB68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FA72E-9528-4761-B27C-E80B0417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76D84-D90D-4FDC-9A49-CDE333AC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699D8-847F-416E-BE6A-CD333A79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FC1-021D-4095-86CC-982F1002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F517A-34A0-4AA5-99B1-6EAEC344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DEA65-6F06-46CA-8D67-F9237D56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6122A-EE60-4EBE-8DB3-E6F94FFD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68DFE-EC88-47C2-B570-36BF0A31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962AC-9608-4E36-B13C-58302B53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668-5301-4603-A540-C6B622D1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725-A6FB-45A9-953A-1A3E2A8D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172-1115-46DA-B591-C319BC93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C64-6800-4349-96F3-20967E56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9E2-7639-4A38-9EFB-32B01102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A57-8305-4E1F-B10B-5D801169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E93-5070-4195-A400-3C47338D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7DA-3516-4F3A-B1A9-058ED69A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DAD-F74B-4B49-A8B9-78A7AED7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358-4550-4D69-9B26-B7A7431E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58F6-19DD-4FE9-9BCB-3BCD26D1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17BD-0CE0-4526-A019-B82340BB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0B8B-A1EA-4057-96EC-CF1FAF56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D098-BFB4-4E9D-9B9F-C366A9C6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81DC-BE88-4C64-B9C3-DE370F47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20E5-2C61-4249-948C-411E533F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A12D-1584-4502-8B77-60C68EDD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7514-A5A7-476F-B411-AD968D33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623A-B97D-4857-947F-DD365C20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A86C-C8D7-42A7-80CD-FC7547DA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17DD-E70D-46C7-9789-1C9EB070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FCD6-1BC6-4E33-BA94-F0291F81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9843D-377B-42FC-9C2E-2A653FDE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3C1E9-C041-4B3B-AE52-BB1DE9A0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80769-E4DB-4898-A41A-6396588A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8110-F88A-4BA3-8DE6-2E5E897B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6194B-B474-4F7B-B45E-69345C67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DCD98-345A-46B1-9CF2-9F10F7A0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B59D6-53D9-44B3-91F0-4A9D914D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2592C-BB9D-4365-ADD6-687DB2FC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0772-A93F-40A5-B05E-1EC1CEE4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76E3-A7C1-4830-86CC-37BEB921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5EB86-E686-4EE5-967E-48FA1B2A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07D8D-0A5B-4317-A4E2-3EBF5016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39261-B0E5-4AB7-B7A8-460776EA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7F1BF-8FD6-4B94-81F2-588C0D50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E9D83-9D87-40C4-BCEA-960E867B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23911-608B-4500-BFE8-0CAF1B84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E75B1-FF68-48B1-8114-2AA38377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83D26-B1E9-40AF-8BC5-309C9123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71511-B206-43B5-AE0A-37AC3D06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5EA24-2A39-4698-A8E1-5F6516A3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39549-4857-4DAE-965D-795D1905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FFDD8-B58C-4122-9C4D-12B50864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47C50-A795-41A1-A4AF-A528B0D2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0D735-4E1D-4948-9F08-CD510684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34CD0-3EF6-4A7E-AEC7-1F10F185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09AE4-5091-4A31-8A8B-1539E7AD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D97E5-DC19-4DE4-8250-5C148B8F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6E5C8-ACB7-4371-8EEE-F51CCADE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D7E7F-BD1B-42F7-B5FB-5AED0F78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0D20E-1B8B-49DA-B69E-7F4EDE6A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ACB19-5CAF-472B-9D73-83704D27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F9EB1-C930-4DFD-AC1B-C8D291F9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5E6AA-D714-409D-9D32-1A6115B2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388DC-E12C-48C3-B6B4-1342955C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5B819-1B9A-4BEE-A3BD-E043CD3A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1A9D4-63AA-44F8-983C-BB2DE1BB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7F827-1304-40F6-BE0F-76F39992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90037-7F83-4928-B1E9-5A20C077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2D1A7-7500-4BD6-B7DE-DF38D6E1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FBD2B-880C-4E09-B558-140265C2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B58AE-BDA9-4371-9024-1917E245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5FAE7-6119-4F76-A87D-6DA3086B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DC821-16B9-4B9D-B800-DF767627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EEBDE-F67C-4AFF-9A1F-8A3A32C8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FBB39-05C5-4020-A202-8A7623EA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B91A3-0B25-4C87-99C3-EE0CB14F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62DE3-F4E1-43D7-8B0E-4A05677E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0504C-E9C0-4D00-BCB3-BB2CE977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50E2C-5163-40F2-B218-38CD0D19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2CB00-C649-4CC4-AB31-2AB6359E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0F3BF-0A02-410A-A42E-41F76807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E8877-8B6B-4DB3-83A5-04B9D379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B3BEE-D698-44DF-900F-6D68FDB9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1A75B-97FA-4DEA-827D-A85EAEF0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C24BC-4C17-42C8-B786-9B2A04E4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632D7-46BE-45D7-A033-450BCBBF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364DF-E89E-44F3-A6D6-E3AE6307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F768B-1527-4C15-AF16-B41E70E9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044E9-49FA-421F-902C-0B6100E2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FFFD5-E3CE-4F8D-8B09-BC753C07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27959-3642-4D85-8903-4FB0762D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79DC2-C1CC-4640-8B93-E90EC4F7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1B086-B52F-4490-854D-13BFEE3A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09E8-5900-475F-8E0F-865FD691DEA5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B153-0601-4E4A-A844-1A379F18C608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402F-00A5-4E51-853D-09CBFCCBE8FA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F27E-5643-42DD-BC25-4A5A98AD096C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0498-FC25-4251-93AC-B97BC191FC73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DC84-015D-44FD-8DFF-F2A2E131DC0F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24E4-F661-485A-9C7B-0C2855CD5988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131C-BBF9-48F4-B49C-A3DD32DA4F39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08B9-79CC-4ECB-BA23-3898CD355003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62B2-11FE-4EF5-9385-A69E2495A42B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E1AA-BA10-4075-85F2-E0C305558F06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bp.mpg" descr=""/>
          <p:cNvPicPr/>
          <p:nvPr/>
        </p:nvPicPr>
        <p:blipFill>
          <a:blip r:embed="rId1"/>
          <a:stretch/>
        </p:blipFill>
        <p:spPr>
          <a:xfrm>
            <a:off x="663480" y="496800"/>
            <a:ext cx="78170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640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51:50Z</dcterms:created>
  <dc:creator>Rob</dc:creator>
  <dc:description/>
  <dc:language>en-US</dc:language>
  <cp:lastModifiedBy>Rob</cp:lastModifiedBy>
  <dcterms:modified xsi:type="dcterms:W3CDTF">2009-12-11T13:54:07Z</dcterms:modified>
  <cp:revision>2</cp:revision>
  <dc:subject/>
  <dc:title>Slide 1</dc:title>
</cp:coreProperties>
</file>