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7862-8DAD-412B-B635-27A4402D4B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332-ADBD-42B3-8D6C-9D7CEC6C3C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D75F5-82E2-47B6-8D2A-E392BAC4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2F59F-F40D-4B4D-8D85-9696107C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381A-F306-4D29-BE68-D3940690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BE1BC-B2FC-4090-B54D-0D2BE95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DC9A4-E6E2-4826-8D93-4F2B59B5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E7F67-B771-4A86-B9E1-02B186EF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3F64F-C83D-45E0-AF88-EADB1E8C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CA80-49CB-4CF6-8BCF-B91CC972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B75D1-64DE-4BA5-8603-81A057E4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52FE8-084E-4E07-B9DA-806EED59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CCF7C-2BB8-4A86-8541-3F6ED10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376D7-54D3-47A6-9B32-C3420BD7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6AEB8-36E9-46FD-9C6A-0E111C24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0028-56EE-4FFA-8EE6-442A1509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7DE7C-8C8A-495E-86EA-A1666051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CBF7C-E403-4FAC-A45A-AFD392BB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B4F88-0A9F-4D67-BB86-E12709EA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701C6-8602-4636-A530-FDE5C1D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6245C-D32F-435F-80DA-01633F00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54880-CED2-4890-9E16-F6BE1408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DAAD6-7DA7-4DED-BD1A-3A044BCE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201B6-1A9E-4676-AA8F-D6F7222C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D255B-48E4-4211-A4B1-5DA59B7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20636-6451-4B84-8A64-A9883FC7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2A151-4907-4610-9314-3B90CD5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8F960-20C7-40D7-AE33-36F596BA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68D81-2BD6-49BE-A6AD-F5348FC0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CA0C5-7395-4D0C-A065-A40BFA16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3695B-4EAF-4B80-9A06-C9B057C9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181B5-50C5-4C9B-8455-A0B9354E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FCD-76BA-4653-900B-6EEBD64E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A768B-5434-4D70-8EA8-2F681187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959D7-8A6F-43D8-8215-E583A4A7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B8FC5-7CEE-4AA5-8675-119CA512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5C6AC-77B8-4BCB-ABA3-B7CFCD0C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6284B-D630-4CB0-A50B-E85D4EF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71969-7C49-4D73-B87E-400F3921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C32ED-4D79-4EE2-BF62-D40A0BB1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57002-6F3D-478E-8BEE-5D9D53A8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D77B0-6AFD-45EB-9D54-A88AAA4D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72707-6DE1-4F19-9907-7CFD458D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C51-B6C8-4EAD-B944-80F682CA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7195-0CC8-4EEE-AE1F-651B6CBB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549F6-714F-424C-827F-7567DB2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23EE2-5031-4135-AAE3-83D6292D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93FFD-FBE3-4A06-AF3E-DA9B1CA8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E596F-A8C1-401F-BE03-2A481C62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6A0-4E81-43BD-8D59-9F110990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ACA-684A-4D33-9598-5AD83EC6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4D7-7887-4247-A226-894E572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9AB-A7EF-4FBB-8331-02BDAECF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8CA-ABEF-4414-A7C9-FD4E0B6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F1F-41A7-4988-B03C-FB1B088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2B8-62F6-42C2-A692-212AF09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B36-67FE-42E9-8EFD-D7ABFF82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FD6-DA3C-4307-9D5B-219B7148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3B8-A879-4C12-ADD5-31A97432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65B8-DB1B-4927-81E8-3E9C1EE9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972-829B-42BF-A49B-92A96333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32DE-C814-4B17-B8AE-5CD32BC5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0BF4-9358-4AA3-B708-896B3D20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FA77-9EE4-41B1-8685-4D7615D3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330F-FDCE-40E2-AD98-176C252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4602-9169-45FE-A763-7552A5E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8FD8-7417-4D24-A414-3B9963C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4E4-8A91-451B-A94A-2DCCDC4D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608B-2314-4D05-AF9B-C12BF23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6462-A3D7-473A-B45D-E83B31F2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D01-8293-4B68-933F-B5907FD2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6948-497D-45B8-9587-A6765FA4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181A-EF68-4B76-AEE1-55248CD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54F0-D700-448D-9911-CD5EFFCB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800E-234E-446B-A7A3-5868F6F0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A6CE-ED64-4A74-8DBB-276CE6A5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1D6A-4349-461F-A512-61E7DA36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0D5C-3E38-488D-9B13-04CE18D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0ADF-FDD4-4A6F-9CB9-AF984C6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8897-4ED1-4473-BA7E-BDCC5B4C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2468-88FD-4BF9-963C-8AAF86DC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61AA3-7584-4D6D-87EB-D74E1931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93B3-0156-4B2A-977F-37035316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6E7CA-3BAE-42BB-AEBD-FC28F683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D912-8BEB-4E29-A4C1-644FE54B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F17A-8A3C-4BB3-874C-3932C2C1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41D4-04AF-47C6-BEFA-B6AB5093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636F-9E15-454D-A352-A4E203A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D253D-299F-4267-BBFC-3CB78A63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3A0C0-F877-4AE8-A4AF-23F7143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E82B7-E871-43B1-A696-4506052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7A8E-6517-40C0-9A83-FF9C44BB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89FD-9A60-4804-816E-71C16A2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4A85-61D9-4D27-84BD-555D7C21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63F5E-8C40-4D4F-BB68-2E70643E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A0EF-8FDD-41C4-BD42-63EC44E2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4372-E7FB-427C-811E-C5A9812C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06200-4CF9-40DF-B79A-4F1409E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CDAB-2C00-492D-927D-EC46D13D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E7F7-9BDE-4B04-BB1F-83505C21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D4D48-A3A7-4505-8DA5-1240AB30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D1D8-173B-4145-87D5-78DBE24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D609-19A0-450D-8BF6-6C46949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BCA9-2EB9-4848-A5F2-2ABBDA27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91BDE-8C27-401F-8930-BA96F309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162A-7F50-4C43-BF6A-E4DDF08C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2A7B-896F-4425-AB5A-0EA70AF4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E3AD2-189C-46E1-ACC6-75675C70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EC477-BE78-4B4C-AB54-79026E8B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B8057-1830-4D64-B814-58F7545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CBF00-DD46-40FE-8811-A993806B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5B55-3D32-4A90-8D45-B9C1C877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230C-28B6-42FE-B502-6F6B5414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3AC44-9D93-4239-8F60-BDA46D25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0BF84-B787-4851-AE13-8983D08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315C-C689-4268-AA96-34DB6234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B6878-D4D8-4F62-9E36-C3D46CE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29FB5-04FF-4B6B-8A34-931A445D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6EE75-D271-4FBA-A604-703EADF0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29737-4B58-4345-BE41-DF7678D4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09978-97AA-49F4-8E0B-7E7F1458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A830-8A1B-4E65-8CFD-28C236E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3A39-3BFA-4770-A525-7FCF2291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4E34-C698-447D-9D52-98BF8259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E8C0A-F2E8-4F6F-AF31-F63839B1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138C-BD42-4E04-8A01-520D541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3595-6B5E-4EE7-A566-347CDDC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4BA30-917B-4388-A5C9-E37B718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417A0-EB0A-4286-B3C6-FAE1C4E4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29578-E73E-4AFC-9236-B59C2F5C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6E38D-C1E2-43C7-BDF0-F974C623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AF7E0-2D4A-4A05-9D25-0EC67FB8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F26F9-E6D1-4129-B566-E5D33C6B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70E20-747E-439D-B40D-97DD1D4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642E-0087-42CD-9A8F-514BCDD45D5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2DEA-6482-4233-93FC-2FEC1B227A8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B119-509B-487A-9F47-13505DAE646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6E10-2144-4203-A425-5A822607397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537-6CAD-441A-93A2-D6489739129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181-8321-4BFA-B452-9680F27F15E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4BD3-C9BB-48D9-9F64-8B3501B4884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92AF-5416-4813-B0DF-18E64D8306D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C940-026C-4729-BBC6-35021C3DDAB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A20F-2D8C-4A52-A334-07D6F7EF9D7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CF50-6B10-428C-A81A-D75920F0B61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f3.mpg" descr=""/>
          <p:cNvPicPr/>
          <p:nvPr/>
        </p:nvPicPr>
        <p:blipFill>
          <a:blip r:embed="rId1"/>
          <a:stretch/>
        </p:blipFill>
        <p:spPr>
          <a:xfrm>
            <a:off x="663480" y="496800"/>
            <a:ext cx="78184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40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1:50Z</dcterms:created>
  <dc:creator>Rob</dc:creator>
  <dc:description/>
  <dc:language>en-US</dc:language>
  <cp:lastModifiedBy>Rob</cp:lastModifiedBy>
  <dcterms:modified xsi:type="dcterms:W3CDTF">2009-12-14T10:17:20Z</dcterms:modified>
  <cp:revision>3</cp:revision>
  <dc:subject/>
  <dc:title>Slide 1</dc:title>
</cp:coreProperties>
</file>