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4731-A5F2-43FB-858C-43F132A29C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C9B6-474E-4E48-A698-8D1E820E7A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9E07-421B-47E9-82E6-B6A26FE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3DE6C-A766-4B2B-8A62-0EF01190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55FA7-1DAA-44E1-B32C-8C90F34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CAE86-D121-4143-ABFA-7A61AEA8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D91E1-CD5C-40D2-9309-94F5F185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9EC86-7A35-49A5-BC65-9CB900A0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04CB-0C1F-44E0-860A-22037BC2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C277D-AA7D-4020-A60D-6E51FAF3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7D0F9-E2E2-4909-A901-114E7BA8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D96ED-7303-4ACB-AE43-63BBED3D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14F0A-1B2D-4ACE-A7F0-C02675E8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3DADC-89CE-4CC8-B985-FC219341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66D91-C6F3-4592-90E2-15454F6D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29EAC-964F-44E4-B831-69C790DD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BE510-1DF6-4BF9-BEEC-46543FC9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BA044-3CAB-4EF0-BA35-67935DF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A872F-7A77-4A88-9CBE-E709A362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7BB86-C0FE-4410-AB83-5992B7EF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5D779-D4F6-4E2B-94FE-539A6F23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A61B2-F7CE-4C70-AF10-19E431CD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B2027-BF90-4008-83FA-8516A98B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B4B57-4B29-40BE-946F-1D993334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21654-8E1D-484E-8C00-F2794F0F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D9233-CA8A-4138-90E1-84E9D27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EADA6-F1BF-41B7-8661-9D1E6D98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3090C-7328-495E-A077-913A9F79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1C479-AF7B-498A-98DD-E72A630F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B65E3-E33B-4954-B943-13C0C06B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41872-C050-4933-A909-110AA82E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63DF5-A2BD-4DE9-8959-EE0B48B4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67B-EAC6-41C3-A71B-F6AF55DF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AEBBE-39A0-4979-B704-74A2FF67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5D1E9-FDF4-4E62-9E29-3060452B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9EE17-34D8-41BE-BA28-6BCF18EA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99705-EB55-48FD-9DE5-A00EACE8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DD5EB-14D8-4C7D-BE0F-A2859F69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E2FB8-A2A6-45FD-B791-EB3EB179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04E53-8825-4C79-995F-11F538C2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29B03-9B4B-4220-B565-8D451C55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F32BA-8B98-4560-99C5-2ED00F46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1B60D-CB1F-4013-97F4-57C9AA97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F18-898F-498A-8ECE-8F41ADF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6CB2A-F919-4448-B8F8-BC5C1CCD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12300-E0CD-4569-8AE5-7FAEFCFC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0F7EE-F7BB-419F-9173-695CE699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3A8F8-7C51-45D3-82CB-DDAA1950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2A376-7BFA-4741-B7C5-A6AD4772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AD0-AFFE-426B-8DD7-8E25E51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736-0D43-43A5-BC3B-D22C6ED9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D0C-D802-488E-B085-888F27C4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438-E2DE-4F8F-AB5A-C77594DC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4AD-210C-4B7B-9AF0-72D0808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FC2-FD07-4F1F-9AB2-4E40E7E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914-3F7B-4FDF-9D04-2D264710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9DD-8E16-468E-A1DA-7C73EA2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94D-E922-4D41-8F15-EFE6B029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8C1-23A7-495D-98DD-DFC6B936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B2EF-15FC-4B62-8766-587320F0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B3F1-898E-40E8-AB95-55D390A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6DE4-8CD9-43C4-8889-AC270B44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36FF-1D8C-4E54-B6B8-F8F00276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906A-1CDA-4C32-89AD-648675FC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D222-CABB-4D63-B3E0-D8F159D9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22FE-F833-4F48-80B4-DFA05741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1085-E0AD-4610-9D04-F32EB643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2C64-A5E9-487B-934C-61517DD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2B21-1D40-4720-AFD6-A1F2A333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A546-4BC8-48C2-8209-EACDBA9F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2C91-9F81-43C8-A28F-25020611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5E99-AC9E-45F1-886B-16388A16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4EBE-B6A5-41E7-A599-7E67DDAC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C2B7-4449-4266-B1D5-F9C4F44C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67CE-4F16-42E6-A93B-5FBFE836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66E4-BC40-4D38-8444-DADD0666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0B82-4406-42C4-8745-57BF1A0E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2508-1983-463F-80AA-2DF847E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6A6C-E1EE-4CAC-B9CF-64D065E5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1262-5B8B-47ED-BB7B-E1EAF0C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41F0-3051-45F8-86CF-66EA1E36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2BB0-6E1C-4249-B2AA-CE8991C9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8901-BF8E-41ED-8AE1-792F3BC5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AD99-A781-4634-9124-5BC84703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FB79-5C2F-4891-9E51-BD32A21C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7A86-C491-4F88-A3F2-DE63008E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41DB-7F54-4B34-A6DE-BEC1811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726FB-545E-45B5-9C51-D471AD84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017D-452D-424B-84D7-87FC0B1E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D8DE4-498B-4CC6-803E-0F5B5FC5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BC8B-2A89-4351-AFC3-1064558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3A06-9B16-403F-BDCB-7E6C234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4795-659C-47E3-BA63-51E6F072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0932-6A88-4E41-AF5D-371B9C5C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9CD7-3EF2-43DF-AB81-FC7A11BB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0655B-5A3C-434F-9F1D-65E69DD5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C14A-8311-4CF2-9220-64B16783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F545-A721-44BC-87EF-7CB63EBC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EDB0-E080-44D3-8437-E1E43FB3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D1904-0AF0-4BA6-B683-ABA9A4D5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E8023-5377-4C7E-ACB8-524E6577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490CF-00A6-49D6-8DFB-57C071DB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AFC0A-9B14-4CFC-9D49-072F30B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A260-88CC-46A8-993D-8314C3C8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E527-3D1D-4D26-83D6-B5E2A810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2F7BA-F819-4D4B-8AA7-A1BE5BB3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3A7D9-32A1-4D95-B6C2-709887C0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21EE-AC60-45B0-AF7E-2916E307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8C955-3F98-4AD9-AFA8-053D549A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5B0B-AF7A-4C07-AB5F-61EAE996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ED3D7-9367-48D2-B5F3-42F1E87B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DBE1D-EA97-4A8C-9DDF-5B470B3F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857E5-4C76-4D86-AE5D-34704C77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8F321-447D-4F54-BB2C-75A416D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8D4B-5770-445E-8A90-E3523B48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84D17-7920-4DF2-9AB6-59DF145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7926B-04F5-401F-A0DB-6F7070FA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B528-1889-463C-83D6-84912A97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DF1C-1EF8-425B-999E-0C8DFD85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8679A-B85A-487C-AC74-B0C6DA46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DAC27-46E6-40C5-800D-C05E7280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7E21D-854A-4F0F-A303-C20975F5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31DB-8312-4A0A-A42F-B981880D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18972-A08C-4308-BCDB-2583AB79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9D180-D4AA-47C2-B6FD-EF4B82E8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D856-36E6-4D15-8D88-59CFDCD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D955-8580-4F0F-A278-AF46A56B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48C92-6EF4-438D-8D5E-59369EC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7B64-22B9-436B-9128-1202E561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8221-BE52-47F2-9ED2-9430EA80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7E30-0C9E-43D3-89D5-AA00FCF2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1783C-6675-4C79-925B-674FA10F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3FA5C-729D-4536-BA3C-D817F018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6383-E2AE-4EB9-8971-E384F5DC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8363-BA78-4FD2-9962-CED3E74DEB5D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4EE-7CEA-4C5C-A5EF-FC58FB6A3630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7062-3554-4D87-BD27-6AE4D5FBBA44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7FF6-63B3-4D6B-BBFD-0C9E4B90DD47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406-0102-4A3E-811E-067FCF7BD745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FBC-1BDD-4414-A0F7-BA7E7B4F83DF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AFC9-5EE3-49B0-85E1-09953257718F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9648-BC9C-44DB-8D92-CBAE245DF332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7603-65C6-402D-A597-561BD93B701F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12D0-700B-4C53-AFD9-2CEE0C8AE949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2B26-5B8C-48C5-BA0E-B44BF37DC3BC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bp.mpg" descr=""/>
          <p:cNvPicPr/>
          <p:nvPr/>
        </p:nvPicPr>
        <p:blipFill>
          <a:blip r:embed="rId1"/>
          <a:stretch/>
        </p:blipFill>
        <p:spPr>
          <a:xfrm>
            <a:off x="663480" y="496800"/>
            <a:ext cx="7817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40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1:50Z</dcterms:created>
  <dc:creator>Rob</dc:creator>
  <dc:description/>
  <dc:language>en-US</dc:language>
  <cp:lastModifiedBy>Rob</cp:lastModifiedBy>
  <dcterms:modified xsi:type="dcterms:W3CDTF">2009-12-11T13:54:07Z</dcterms:modified>
  <cp:revision>2</cp:revision>
  <dc:subject/>
  <dc:title>Slide 1</dc:title>
</cp:coreProperties>
</file>