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B100-38B4-489A-9FE4-33139BF818E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F9E8-743E-495D-B898-2BD6F589C84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DEC37-9FCB-45BE-9687-9D74B6F9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31E3D-4FD0-4B51-B823-1A83BE40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DB54B-347C-4645-9E29-0CFC68D8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DBE11-DBA7-438E-90CD-0648E410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37B12-6BC4-4F32-AB8D-598800B5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A018B-EA59-44BF-AF1A-41CA045E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02301-C472-481E-B16E-C4743B3B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BA64C-A5C6-4257-9ACD-4498D92B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7F292-B3E7-4B33-AA23-F70C1F56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93CF8-196E-4818-9460-625B9947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A4CFE-94C3-49D6-A148-EB9E7025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DDC92-3F73-4CE5-B9EE-AA4A655D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1E3B3-4A36-4966-B56D-241F0807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42224-0E3A-4D00-84D5-AEE7AFD6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672C5-569A-45FF-AEC0-87B94109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C6EF0-073E-45BC-8B17-F17E76F5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BD5A0-E25F-4DEF-8356-AB948EF5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183CE-103A-438E-946E-F3B10120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DDBB0-6FBD-463D-868C-1FB66FD2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A5FD7-E9AB-44F7-A782-3408DECD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7BAF9-2025-46DF-B5BE-7F63BA3C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DB945-AAEF-4310-88D2-249BFDA9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FE935-FCC0-49CC-A223-1170A479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57A95-2A77-4D7F-AE9F-5D99865C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C0B2C-16FE-4C31-A4C3-F81DA021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77BE6-0967-48B7-AEF6-D1F1231D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8FC47-3751-475C-9DF4-D1262F57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627AE-9387-4241-BF76-44A81322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FC00A-BC48-4136-86CD-61EAFA6D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8D115-F704-45D0-88F6-A214D1EF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44BA-18A8-4712-87A6-56A19841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7A925-5950-44A3-908C-5E20B7DD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77C18-59D5-4DDE-92C0-4CD8A5E4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F14A5-0C36-4496-B9C8-696F97AA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7C840-0AEA-4CBD-A033-EA3958AF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B1CEE-1AA3-4159-83CD-56085157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3B97D-C145-4C98-9766-B99A65A1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70C7A-0237-44A9-A25C-AE4D9467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7130B-4B2B-4894-AD6F-EF732169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F8A4C-4BC1-4D99-8D17-CE9D3D8C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D4EF4-BD2D-4C61-9CD6-A029C8B2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AD0-1700-4907-A0C4-54DBE53D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EB9FB-7AAC-479B-A371-185E7C74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94C2C-8419-4370-A426-AC7CB73C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F7432-66AF-4FD7-9B85-4F07F4AB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984DF-385C-4188-AF48-A6804B3C2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49EC5-4F19-4CFD-9D31-D474A548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3767-6C2C-4B09-9A48-DE24FB82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CFAD-F43A-461C-913E-19BA9FAB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52AA-C3D6-4860-A170-754D06EF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EACE-057C-4CD2-BBA8-EE624C59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684E-17A2-4FD2-B8DA-98B7C825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DEC5-F60D-4C57-9B29-9905CF4B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1E3D-CE65-433C-A78B-BBF88CCC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9E6C-6535-4D5D-A156-756F3362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F888-A949-4059-A74F-6A4ABD26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62A4-A51F-4FA9-B740-071B980A8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F539-AF8C-41AA-B4C2-48ABDD35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D0DC-68C0-4068-ADF0-2541CD10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8D56-6777-4426-840E-47BDD191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CBD7-2C43-475D-93C7-DF017438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D034-6D5A-41E4-A5B4-86DC31A3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E957-0DE9-44E6-9463-198D60AB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03DD-E35A-4A3A-AB4A-EE405D6A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B21D-5B51-4BDE-86AD-4D54DFE6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5D3D-14FA-4353-9752-025D4E57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5719-4845-4114-8A3A-EED064FD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48A9-29AE-4736-9D4E-BCCF18BA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D5F1-317C-477D-873D-27FE531E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69DD2-A6B8-4D5C-9EDE-EEF6F04A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A2FD9-9EED-4A06-89D3-2A241A24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9AA06-FDE5-4CC2-A614-B16E7772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072CA-3CFD-4C22-8491-13E055FC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02F04-151A-4029-8708-83334AB4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3268A-933F-40A9-9531-6D22B889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3C49A-72F1-45D8-AA9B-018E6402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C471A-8459-475F-9536-27A5AD10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A2D9C-5BD3-464E-8015-746BE4BA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CE9BD-520F-42EA-913D-E76C130B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C2788-75D9-4DD0-BFAB-BE0B7156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8D2D3-8C46-4FC0-A3D2-281C1EA6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26C15-7F4C-45BE-B434-98D7D264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4B672-B5E6-4FB0-8F54-0574E7AE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37EBB-E6BF-404A-88DF-37F958A0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35DE2-C9E2-430B-B322-EECEC6DF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A89C6-2699-4149-A49A-927F3ED0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1987C-E533-4ABC-B2FD-9762E973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D117E-CC69-4AC3-9110-F0E9DCCE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9C20E-5D7C-427A-8124-85A7BE45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8F2F8-41C7-4340-93BB-081C9825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2226D-0ECE-46E8-9AB6-B0729C54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C535C-652E-4D92-890A-67F4360E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C2FBA-944E-458B-A63C-858DCEB9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D4623-ED65-41EF-B466-2775DE7C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DDAF4-7332-4551-819F-42F48747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CCCF1-A32A-47EB-AA33-395ADFAF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2CF27-FFDA-4110-8E32-390127CB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2042B-F65C-4F9F-BF55-124CA619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E1E72-A935-4D63-B839-E32A67D3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4E1DA-8B04-4601-9508-5CB6847A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AB046-16B3-4221-9AD3-05AAD22B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9273E-8F67-4481-A0CA-8513BECF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2A750-5B1B-4D82-BEBC-9AC2E068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5182A-E40C-4F91-8321-999D381F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CA8C7-EA43-4B12-A7D6-F33AEFE9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EFFFB-8094-4327-B54C-88C8393D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7D850-FB30-4CC9-9F40-17646C29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D86C3-F7A9-4A88-A30A-CD427E6C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0C7A7-E922-4788-AFB3-2923175D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261EB-25D3-4999-BB30-F8040AC8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12B6D-EA77-471D-A286-B44AFAA6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FEDC3-60E4-42DA-8736-CD784C35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0C5A2-0BA6-4910-B76B-F6263116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6F1A4-840E-4599-9F39-A7A6FDDC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1A0D3-71CA-4416-BD16-EC4C5DF6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20378-51D5-49A4-9CDE-70201A56F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C3D7E-5643-44DE-8C45-7A63744E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ADF0D-9668-4155-A92B-65E1A35A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10C44-FBCB-4871-A6D4-4EA98696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025D6-A8C7-4298-8D33-A5ADC10C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8B967-9E42-4C85-BE09-ED4C31C0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72B29-8772-4221-B29B-03DD3C33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49598-C60F-47ED-A69B-D3605408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BE713-E634-4849-81B6-09027282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50850-B42A-46F0-99C6-4C5FB7D6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C29AF-A632-48BB-A9A3-58CFFF8A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365FF-4E8E-411F-92E6-354B739E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8C3DD-4DAC-4F8B-B082-D0BB8177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625C4-B5DB-43F8-AB84-3EDF793F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AC12A-4F09-4E24-BA9C-B2749984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2D721-461C-40A2-80F9-F6E6E60D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F1917-B491-409E-8F6F-5D152F73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C5B6-356B-4FEE-809C-60DB962A3724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BCE6-17BA-4DC1-A9C4-122372C1D7EC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4ACA-35E3-4C71-BF87-EE5040C8656E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6E7E-F075-4E88-9E65-525C37BA0FEA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B7E7-E3B8-40E7-A2B6-AAE6E987B24F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4F98-B645-4468-AA77-4D55B16BB45B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F107-CDF1-4CA1-BE2E-82435286DDFE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EE69-AE43-4E49-8BFE-D63EEE2782BF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E2E8-2A09-4174-AE3B-61A5153AA21F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DE0E-E77A-45E4-ADBA-144C036A4AC4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BA26-7CCE-42D2-9E54-AF90300C9917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f3.mpg" descr=""/>
          <p:cNvPicPr/>
          <p:nvPr/>
        </p:nvPicPr>
        <p:blipFill>
          <a:blip r:embed="rId1"/>
          <a:stretch/>
        </p:blipFill>
        <p:spPr>
          <a:xfrm>
            <a:off x="663480" y="496800"/>
            <a:ext cx="781848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840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51:50Z</dcterms:created>
  <dc:creator>Rob</dc:creator>
  <dc:description/>
  <dc:language>en-US</dc:language>
  <cp:lastModifiedBy>Rob</cp:lastModifiedBy>
  <dcterms:modified xsi:type="dcterms:W3CDTF">2009-12-14T10:17:20Z</dcterms:modified>
  <cp:revision>3</cp:revision>
  <dc:subject/>
  <dc:title>Slide 1</dc:title>
</cp:coreProperties>
</file>